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E41-5F8F-499F-8625-57555623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B53-6161-4ACC-ACCD-1DADD727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8FCC8-F8DD-4F6C-9BEB-15226CAA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529AE-4F4C-48FB-BE49-7E7D96D8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A9440-169B-48B1-9BB0-427DF81D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B4468-CE35-4CFA-A805-0781EF44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4EA9B-28F2-40AD-BB75-B688316E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405C7-6EEA-4555-AA97-30E84059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AAF96-805D-4C04-92F3-5EB64696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EA707-1919-4552-8917-4DCCB7FE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3D81B-79EA-45F0-822D-B22FB7FE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0FE4F-E53C-4433-970D-C5A724D8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774-B48D-4826-8787-1117A711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9BC02-AF5D-4A93-BF0A-90DC994B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68D42-A2FF-432A-B61A-0EAE304B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E5D99-FDBD-4E83-822E-BD95858D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DCD87-E188-428C-84BA-A61B58DF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66436-AFE1-4AED-95DD-77FAE177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2C225-4DDA-41B0-8619-393487F0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2037D-A0C1-41A7-8AD3-CD529EED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89F0F-F813-4097-BB9B-F6A1CBB9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F5CC9-8038-4358-BADF-17418BDF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3A1CD-2D77-46B3-939E-BA338710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BBB-52AE-48BC-9158-42F89509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4742C-D781-43D8-A960-3C3547BC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DEFF9-D032-40C5-A796-0E1F9A62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BE5F6-674E-483C-80AE-8ABDA38F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E7A32-449C-4C27-AC09-D5E8F110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A5212-111E-41A6-B068-989F92BF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68D36-5414-4FE6-B69A-6BF15987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E822A-C3DE-4BDD-84CC-FFB4B7D0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3FCDD-F880-4E5D-84B2-D5D3F1D6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0B1C1-8B07-4585-B078-29C75002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EAB13-0AC1-4659-90A6-27D0723F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286B-35FE-4F79-8A67-AF073166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EC314-C6FD-4751-82B6-00BA28C7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135F0-0954-402D-9B91-B561CE56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54AE5-22F0-4786-B0B4-C422CA0B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DDC4F-56E5-408C-9FA9-E9227ED9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241AA-D3AE-4241-958A-BAEEBED7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30F07-E002-4E36-A016-001D2EE7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C0F14-81A9-4053-B42D-8D28FE5C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E043E-BBEC-45E1-AE6C-91D77E20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FC8FB-95D1-436A-8D6B-20C5123F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21EB4-6AD8-41FB-AF9D-E65DFAF0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1186-D329-4D26-B0D6-07F62A57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03422-F1C7-43B3-926C-17C896A1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C8B34-11D1-4DB7-9435-C1ECBF88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A369C-84B6-44E5-9013-BD15A70E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A72C0-6E0A-4631-BB7E-2C2E3BB2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2C55F-B5B0-4EC0-AC6F-B0ADAE4D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553F-9424-4D9B-9B7C-946F1A2E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5E27-F985-473C-BC15-1009E980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8D1F-9720-4BFF-98EC-1A2C608D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1636-C0FC-4932-A4DD-A1357734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743C-5001-4D70-AF7D-82125B1F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A6D-A533-4E84-9800-C1BDAD62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16EC-9F54-4C5A-B38F-C7102DA5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315C-F3A8-4BA4-8FAB-C084A816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692F-4F19-4E82-903C-C93942C2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5927-6827-4CC9-9183-191CC496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BC28-23C8-44FE-8057-222DB289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016D5-314E-4D1B-9864-D32F781A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AA80-B695-4352-8316-D96ED7B9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0BAE4-4A23-4018-98FB-B21CE897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5BD1B-618D-437E-841D-582FEEB5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1526-719D-45AC-AA74-27FE8B1B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BB9-2278-4169-B6CC-2AFCF4B2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0BC74-7E28-4790-8261-83D11B7C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7B752-8D8D-4749-9655-4E0FDFA3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0C5F-ED5E-4283-946B-648FB165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0E031-46C0-4059-9990-6CF0E593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375B9-6AC3-4D9C-9DA2-AC6C05EC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DFDC-F2A6-4ED7-A479-095CB1F7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B8F7-2DAC-4B0D-A130-9D3CFE5D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7C675-3BDB-4174-A1EE-56DBA30D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40839-282E-4818-80D4-B562577E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D83E4-8555-4DB8-A90B-3D4BE3BA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2A3-94CD-4B9F-9F51-1E0006EC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22E57-D055-462A-BF30-61B31C89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E24ED-983F-4686-9545-04856884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257A-131B-46FD-8D8D-772CC3C9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CC0CF-5442-4138-BF28-E8E32F6E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37613-4830-4083-9385-71255A00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66BDE-4E9E-43BE-A54A-E94F3FA2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F0AB8-E682-4495-B9B9-E3A419ED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60F86-908F-4A21-8C22-01184C8C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2B0A3-00D9-4978-94FE-56F4C982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13D36-F2B0-4366-BA0A-EE5D811C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A1F-F278-4B09-8A23-9AB8353C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38B9C-785F-4F06-9FBB-86A2F407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69926-3A01-4283-9D26-5C5FF9C6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2ACD7-8149-47A5-AAD8-381515C0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32929-3DF6-433D-9E34-CFFC7FB0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9DE27-2F1E-4560-BCD9-0090CEFC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585E1-B02B-4F26-97D2-93929392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2CBC1-240B-4745-82DF-5641074B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56FA1-35E3-4939-8E70-75797D02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DED9F-50E7-435B-A55B-3D6B8348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CE001-1C4A-4AB9-9ECA-E28C5077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354-D9F8-4202-8143-EB26B347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B73B4-40BA-4FA3-8E4C-999DA0E4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EBF30-3DD9-447A-B34D-56DB1C45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4F64A-34BF-4BB7-A861-EDC97897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8FB04-AAEC-452C-B6CA-AB6E55BE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B4B8E-34A8-42D8-AA7A-2FB6A414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3DC7D-7431-4F1E-8CC7-98FE2457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182B0-4683-4CB4-BAEA-7BF3609B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AD350-BC5F-407C-8404-2481EC25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77A6D-7F32-4FF9-9AEF-2CC7E500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C4FF6-3931-4338-A94B-63A0CA35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C69-53DA-4419-9FB7-78529992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4196A-86C5-4C73-A143-06ED2E6B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1EC88-FDC0-4A42-ADBD-45E62181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FFCE4-2EB4-4B4B-9A61-405467D9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6B717-D5DC-4B9C-AD95-2CC2269B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24AAF-367F-494D-87E8-82832F40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B6590-3EA2-4D8D-ADA0-2AFC6617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F37AE-6F6A-4FFD-A7E5-80365F92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3300F-CCB7-4F4A-8CCC-BF64B401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0364C-8401-4EB2-9895-71F359DA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F10B6-0AB8-46CF-BC1A-ABA28995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E13-A42B-4B77-864C-59A0D8FC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DD7F8-C80F-4BD6-86BE-90B25B54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C6F42-E029-4BCC-BD66-FF528589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D317F-9ACC-4426-A5B4-05EED8E9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17954-250B-4921-800D-7CD837AC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27013-1D69-4307-A902-0C29ED82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C9A92-C5E9-41CC-883B-0AE4B997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90984-37F1-43D6-932D-A4002A5B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9605E-3AA5-4327-86A9-0C37B811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9B371-EC84-4D93-A5E3-2A8862FE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2C457-4D84-4942-B3DC-F2EF180B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159-32DE-4B01-831E-5D6A12DC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71FFC-1BA7-47CA-B9BB-FCDA86B0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11E1F-C1D9-4C6D-BBD1-8DAFB364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48DA2-5FDD-458D-B227-E2E46360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34F7F-C0C8-4E0C-8C93-D557165C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D8CB0-03D6-4A26-8BAE-7AF10E90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D2DCE-BDA9-4811-95DB-F04D6FD4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6C1A3-6EEB-47C2-8F09-2D672E8B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7B497-32D3-4781-A815-50BFF2FA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64913-8BC4-42EE-BD80-C82DFA8A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A6D52-8A28-4B08-907B-04F99111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AF69-8079-46DA-913D-8496979390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A702-E396-46A7-B835-03EC01B1F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E9B1-A6E6-43CE-A921-5F8059E2717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DFD4-5979-440B-B950-72C77B4A8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9461-B654-4A67-9398-D437FDDEAB7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89EA-BD10-4FED-AB70-1D2D9A107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3B9E-6E07-456B-B6F1-427A6CF9777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2D8B-ABD5-46D6-8AB1-11DC01584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9553-5EED-40AF-B734-623101CCBAB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9120-E899-40B6-A466-1D7938359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DD12-FD7F-437D-812F-79CEC1600DC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95B3-3B17-450F-8724-831C30644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3E81-C90E-42C0-BD05-D1896A5B4A8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D137-8DE7-4E78-BDBD-920301DBC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D8B2-C7E0-4235-9BC4-23F6104A127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D2B4-B0B1-43AC-8F86-6D41D41CC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7079-6528-4555-AA2E-3BABCBF698E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40FF-5E47-47B2-A4FD-3F44387B9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7AC0-42C4-45D7-9928-127F377FB09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927A-7F0E-4A5A-9736-CB2525D07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6B6A-888E-4886-A5ED-EF165E3E510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88A0-1BD1-4339-93ED-78E8EDBAC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6555-D645-4869-9F54-2E4C36FAD7E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CBBD-305F-4A96-B17D-1D8700AE0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"/><Relationship Id="rId34" Type="http://schemas.openxmlformats.org/officeDocument/2006/relationships/slide" Target="slide36.xml"/><Relationship Id="rId3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b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wing 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Box 2"/>
          <p:cNvSpPr/>
          <p:nvPr/>
        </p:nvSpPr>
        <p:spPr>
          <a:xfrm>
            <a:off x="2514600" y="68580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fiber from the flax plant. Great for summer clothing and for napk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4"/>
          <p:cNvSpPr/>
          <p:nvPr/>
        </p:nvSpPr>
        <p:spPr>
          <a:xfrm>
            <a:off x="2286000" y="762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lin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3"/>
          <p:cNvSpPr/>
          <p:nvPr/>
        </p:nvSpPr>
        <p:spPr>
          <a:xfrm>
            <a:off x="2971800" y="914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that has tee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2743200" y="762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zipp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2438280" y="838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that is usually round, has holes, and goes through a hole to close garm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4"/>
          <p:cNvSpPr/>
          <p:nvPr/>
        </p:nvSpPr>
        <p:spPr>
          <a:xfrm>
            <a:off x="2743200" y="762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butt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Box 3"/>
          <p:cNvSpPr/>
          <p:nvPr/>
        </p:nvSpPr>
        <p:spPr>
          <a:xfrm>
            <a:off x="2514600" y="609480"/>
            <a:ext cx="350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that has 2 parts that _____ into eachother. These are usually metal and must be hand sewn onto gar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4"/>
          <p:cNvSpPr/>
          <p:nvPr/>
        </p:nvSpPr>
        <p:spPr>
          <a:xfrm>
            <a:off x="289548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n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Box 2"/>
          <p:cNvSpPr/>
          <p:nvPr/>
        </p:nvSpPr>
        <p:spPr>
          <a:xfrm>
            <a:off x="2438280" y="8380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that has 2 sides.  This can be sewn to the garment or stuck on.  Also called Loop and Tap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Box 4"/>
          <p:cNvSpPr/>
          <p:nvPr/>
        </p:nvSpPr>
        <p:spPr>
          <a:xfrm>
            <a:off x="2743200" y="685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Velc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Box 3"/>
          <p:cNvSpPr/>
          <p:nvPr/>
        </p:nvSpPr>
        <p:spPr>
          <a:xfrm>
            <a:off x="1905120" y="76212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fiber made from worms. Originally made in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447920" y="32446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3"/>
          <p:cNvSpPr/>
          <p:nvPr/>
        </p:nvSpPr>
        <p:spPr>
          <a:xfrm>
            <a:off x="2743200" y="609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qué closure. Sewn on top of garment. Named after an amphibia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Box 4"/>
          <p:cNvSpPr/>
          <p:nvPr/>
        </p:nvSpPr>
        <p:spPr>
          <a:xfrm>
            <a:off x="2743200" y="609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fro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Box 2"/>
          <p:cNvSpPr/>
          <p:nvPr/>
        </p:nvSpPr>
        <p:spPr>
          <a:xfrm>
            <a:off x="2819520" y="91440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 that is shiny and made from a twill weave.  Usually used for bridal and formal we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2743200" y="685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at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3"/>
          <p:cNvSpPr/>
          <p:nvPr/>
        </p:nvSpPr>
        <p:spPr>
          <a:xfrm>
            <a:off x="2590920" y="8380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lain woven cotton fabric.  Usually used for sample garments and quil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4"/>
          <p:cNvSpPr/>
          <p:nvPr/>
        </p:nvSpPr>
        <p:spPr>
          <a:xfrm>
            <a:off x="2743200" y="990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usl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Box 2"/>
          <p:cNvSpPr/>
          <p:nvPr/>
        </p:nvSpPr>
        <p:spPr>
          <a:xfrm>
            <a:off x="2514600" y="6094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jeans.  Has a twill weave.  Very strong and mostly made of cott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2514600" y="914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n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3"/>
          <p:cNvSpPr/>
          <p:nvPr/>
        </p:nvSpPr>
        <p:spPr>
          <a:xfrm>
            <a:off x="2362320" y="9144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retchy man made fiber.  Added to fabrics to make them stretch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4"/>
          <p:cNvSpPr/>
          <p:nvPr/>
        </p:nvSpPr>
        <p:spPr>
          <a:xfrm>
            <a:off x="2743200" y="838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pande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5"/>
          <p:cNvSpPr/>
          <p:nvPr/>
        </p:nvSpPr>
        <p:spPr>
          <a:xfrm>
            <a:off x="3048120" y="685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il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2"/>
          <p:cNvSpPr/>
          <p:nvPr/>
        </p:nvSpPr>
        <p:spPr>
          <a:xfrm>
            <a:off x="2666880" y="8380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fabric used for expensive sweaters.  Comes from Kasmir go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4"/>
          <p:cNvSpPr/>
          <p:nvPr/>
        </p:nvSpPr>
        <p:spPr>
          <a:xfrm>
            <a:off x="2819520" y="609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ashm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3"/>
          <p:cNvSpPr/>
          <p:nvPr/>
        </p:nvSpPr>
        <p:spPr>
          <a:xfrm>
            <a:off x="2895480" y="8380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hand tool.  Used to remove stitc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Box 4"/>
          <p:cNvSpPr/>
          <p:nvPr/>
        </p:nvSpPr>
        <p:spPr>
          <a:xfrm>
            <a:off x="28954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ipp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2"/>
          <p:cNvSpPr/>
          <p:nvPr/>
        </p:nvSpPr>
        <p:spPr>
          <a:xfrm>
            <a:off x="2743200" y="7621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 that is used to stitch together fabric with thread.  Used for basic sew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2514600" y="685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ewing mach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3"/>
          <p:cNvSpPr/>
          <p:nvPr/>
        </p:nvSpPr>
        <p:spPr>
          <a:xfrm>
            <a:off x="2209680" y="91440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chine used to bind the edges of a seam so that it doesn’t fray.  Uses 3 – 4 spools of thread. Can also sew seams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2743200" y="1066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erg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2"/>
          <p:cNvSpPr/>
          <p:nvPr/>
        </p:nvSpPr>
        <p:spPr>
          <a:xfrm>
            <a:off x="2362320" y="83808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device that is flexible and can measure around a person’s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Box 4"/>
          <p:cNvSpPr/>
          <p:nvPr/>
        </p:nvSpPr>
        <p:spPr>
          <a:xfrm>
            <a:off x="228600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measuring ta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2438280" y="83808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fiber that is good for cold weather clothing.  Comes from sh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2133720" y="8380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equipment used to press fabric and seams. Is hot when plugged 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Box 5"/>
          <p:cNvSpPr/>
          <p:nvPr/>
        </p:nvSpPr>
        <p:spPr>
          <a:xfrm>
            <a:off x="2666880" y="8380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ir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Box 3"/>
          <p:cNvSpPr/>
          <p:nvPr/>
        </p:nvSpPr>
        <p:spPr>
          <a:xfrm>
            <a:off x="2590920" y="60948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of finishing the bottom edge of a gar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5"/>
          <p:cNvSpPr/>
          <p:nvPr/>
        </p:nvSpPr>
        <p:spPr>
          <a:xfrm>
            <a:off x="2819520" y="762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emm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3"/>
          <p:cNvSpPr/>
          <p:nvPr/>
        </p:nvSpPr>
        <p:spPr>
          <a:xfrm>
            <a:off x="297180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8 of an i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4"/>
          <p:cNvSpPr/>
          <p:nvPr/>
        </p:nvSpPr>
        <p:spPr>
          <a:xfrm>
            <a:off x="2286000" y="6858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width of a seam allow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Box 3"/>
          <p:cNvSpPr/>
          <p:nvPr/>
        </p:nvSpPr>
        <p:spPr>
          <a:xfrm>
            <a:off x="2209680" y="9144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ewing 2 pieces of fabric together, these sides of the fabric are face to 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4"/>
          <p:cNvSpPr/>
          <p:nvPr/>
        </p:nvSpPr>
        <p:spPr>
          <a:xfrm>
            <a:off x="2362320" y="838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right si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Box 3"/>
          <p:cNvSpPr/>
          <p:nvPr/>
        </p:nvSpPr>
        <p:spPr>
          <a:xfrm>
            <a:off x="2286000" y="6858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o this when you are using the iron on fabri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Box 4"/>
          <p:cNvSpPr/>
          <p:nvPr/>
        </p:nvSpPr>
        <p:spPr>
          <a:xfrm>
            <a:off x="26668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re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2209680" y="9907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w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2362320" y="68580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o this when you use sharp thin metal “sticks” to hold together 2 pieces of fabr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Box 4"/>
          <p:cNvSpPr/>
          <p:nvPr/>
        </p:nvSpPr>
        <p:spPr>
          <a:xfrm>
            <a:off x="259092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in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2"/>
          <p:cNvSpPr/>
          <p:nvPr/>
        </p:nvSpPr>
        <p:spPr>
          <a:xfrm>
            <a:off x="1981080" y="6858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fiber grown on plants. Good for summer clothing. A machine called a _______ gin made it easier to separate the fiber from the plant see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4"/>
          <p:cNvSpPr/>
          <p:nvPr/>
        </p:nvSpPr>
        <p:spPr>
          <a:xfrm>
            <a:off x="2666880" y="685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ott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Box 3"/>
          <p:cNvSpPr/>
          <p:nvPr/>
        </p:nvSpPr>
        <p:spPr>
          <a:xfrm>
            <a:off x="2438280" y="9144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 made fiber. Made from coal, air, water, and petroleum products. When burnt, the fiber melts and burns.  The ash is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Box 4"/>
          <p:cNvSpPr/>
          <p:nvPr/>
        </p:nvSpPr>
        <p:spPr>
          <a:xfrm>
            <a:off x="2666880" y="762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olyes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DeBates, Debra</cp:lastModifiedBy>
  <dcterms:modified xsi:type="dcterms:W3CDTF">2009-09-14T21:31:17Z</dcterms:modified>
  <cp:revision>37</cp:revision>
  <dc:subject/>
  <dc:title>Blank Jeopardy</dc:title>
</cp:coreProperties>
</file>